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3B7-0BE9-4C07-9A5B-CAA99AC3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68D-8BE4-483B-9A4F-9B56BF79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F49-1F8B-4941-B616-5825CB31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5A2-5850-4ADA-AE2A-94A12C3E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77D-E22C-48DB-8552-97C021BC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B0C-DB35-45AC-9871-6BFA5A9D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88E-7E39-4B1D-9599-FD98BC4A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C73-1966-47F3-A8DC-83F14522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2FD-41A2-4EC5-9A92-E76999A8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E4C-1396-4C3E-970A-4655301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04F-5E48-4E6C-BCCB-0D71CD1C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626-B560-4907-A8B1-85F99C5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4D8E-8F38-4A02-9EA5-C8DE6803B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55480" y="1100160"/>
            <a:ext cx="8026560" cy="4660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aining Hyp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be hypnotiz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cales to measur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ford Hypnotic Susceptibility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n by Wilson and Barber as to authoritarian (re:  “I have you under my control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ve Imagination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son and Barber scale which is done in a more permissive fashion (see what happens in clas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ontent Placeholder 4" descr="1103214-Sandy-beach-0.jpg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hypnotic amne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notic age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ociated (divided) conscious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den ob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225520" y="712800"/>
            <a:ext cx="4686480" cy="5435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Amazing” Hypnotized “Human Plan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s and Falseho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ypnosis Work for Any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nyone Experience Hypno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ypnosis Enhance Recall of Forgotten Ev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ypnosis Force People to Act Against Their W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ypnosis Be Therapeut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ypnosis Alleviate P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nosis as Anesthet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Macintosh HD:Users:HPlouffe:Desktop:Hypnosis__Mind_over_Pain.mov" descr=""/>
          <p:cNvPicPr/>
          <p:nvPr/>
        </p:nvPicPr>
        <p:blipFill>
          <a:blip r:embed="rId1"/>
          <a:stretch/>
        </p:blipFill>
        <p:spPr>
          <a:xfrm>
            <a:off x="1625760" y="1828800"/>
            <a:ext cx="599436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d control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acintosh HD:Users:HPlouffe:Desktop:Taking_Control_of_the_Nervous_System.mov" descr=""/>
          <p:cNvPicPr/>
          <p:nvPr/>
        </p:nvPicPr>
        <p:blipFill>
          <a:blip r:embed="rId1"/>
          <a:stretch/>
        </p:blipFill>
        <p:spPr>
          <a:xfrm>
            <a:off x="1371600" y="163836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6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oring in Modules, Modul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aining the Hypnotized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nosis as a Social Phenomen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nosis as Divided Conscious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23:28:10Z</dcterms:created>
  <dc:creator>bfw</dc:creator>
  <dc:description/>
  <dc:language>en-US</dc:language>
  <cp:lastModifiedBy>MacAdmin Kis</cp:lastModifiedBy>
  <dcterms:modified xsi:type="dcterms:W3CDTF">2009-04-06T00:11:57Z</dcterms:modified>
  <cp:revision>21</cp:revision>
  <dc:subject/>
  <dc:title>Module 18 Hypnosis</dc:title>
</cp:coreProperties>
</file>